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E2A-9C3E-4674-8FFA-5BD94E9F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702-0822-4394-A7E1-3E5C5D80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5DB-7544-4370-A97E-5E1AB818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4B6-0DCB-49C6-A5C0-42C9BCC2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9E30-DDAF-4B45-B56C-803DD810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A8FD-F377-43F0-9D39-5DBDF71E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995-85D8-4B86-AB89-D3B22780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5338-6BA5-4A9C-9197-0098C1B0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E70F-5FC3-4E04-B432-BB344B2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AEE5-460D-4594-8639-6AF651A3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DF37-FF71-4665-AFC8-2443F3F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A6F-E150-4DB7-8C06-1631DF0F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A17B-18F7-4108-830F-67B0EAC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79B6-C178-49AA-A8A5-FDC7258D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95A7-4397-4F52-8624-B8811E3A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98CF-9F10-473A-87BD-8D847C7A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A75F-55F2-4823-A665-CDD29FE6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FAC-967A-4AB1-A3C5-CCA0F96C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FB6-1FF0-4308-A9AF-B972C5BF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C7B-7FAB-41F3-BEDB-4ED0D794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503-E72D-43B9-AC67-ECF57DDC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4E4-407D-4B6F-87DA-DBF3BAB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B3F-B970-446F-8886-3230C9F5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4A0-CD81-4383-A6C7-E7FAC3F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29C3-52BA-4092-A0C0-A0716364D7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DF9C-382D-4076-B750-46EF4C144F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ГУ "ЦЕНТР СПОРТИВНОЙ ПОДГОТОВКИ СБОРНЫХ КОМАНД РОССИИ"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УНИТАРНОЕ ПРЕДПРИЯТ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ЮЖНЫЙ ЦЕНТР СПОРТИВНОЙ ПОДГОТОВКИ»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эстафетному б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6-18.09.2011 г.                           г. Сочи ст. «ФГУП ЮГСПОРТ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эстафетному бегу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ВНАЯ СУДЕЙСКАЯ КОЛЛЕГИЯ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1989000"/>
          <a:ext cx="7777440" cy="3740400"/>
        </p:xfrm>
        <a:graphic>
          <a:graphicData uri="http://schemas.openxmlformats.org/drawingml/2006/table">
            <a:tbl>
              <a:tblPr/>
              <a:tblGrid>
                <a:gridCol w="2725920"/>
                <a:gridCol w="2652840"/>
                <a:gridCol w="450720"/>
                <a:gridCol w="1947960"/>
              </a:tblGrid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Лотор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. Целебриц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оловь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-Петер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менедж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гиазаря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менедж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йнетди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оцед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вж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1-09-17T13:25:22Z</cp:lastPrinted>
  <dcterms:modified xsi:type="dcterms:W3CDTF">2011-09-17T13:28:16Z</dcterms:modified>
  <cp:revision>17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